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C2B-E3D2-4E7C-80D6-2A6D318D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B77-151F-4689-9BB3-7CC10AF4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91E-DB74-496B-8165-DA74E0FC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FDC-CEA1-4EA8-BB39-03048DC2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E143-BB2C-4B50-ABE7-EEE462A7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3913-022A-495A-A09F-DB2BAC72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BA42-3B45-4D73-B8F3-79C7028A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D8EA-2B3F-4CA1-BD2B-C89F1BEA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C5AE-49E7-447A-98EC-6F1077A8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9BA0-8ECE-4FB9-ABE2-40021706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6155-2C60-4DF9-B68E-C28700B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75F-E4AB-4A0A-9606-DA87AEA3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3D20-69D3-4204-A8CE-4FB2768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D8FF-518A-4BFB-B416-192F760E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D7E-6548-4443-99ED-FFF1AEB7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386F-EE11-4E45-B249-A60F4F0C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1598-2CF9-4A1C-A1BB-D7671F08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86B5A-4AF8-4821-B37F-C6E84D79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CFA08-1C98-41C5-8201-F09952F5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32D17-7382-4964-BA87-3E3E09E4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126F3-4AAD-44DC-A8D7-29568E66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EAFD2-2405-4E33-BF96-8A1BBF6C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025-A2E4-4C6E-B9B9-6F2853B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22382-B0A8-4ACA-9192-E133398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729DC-0447-4E32-837F-097DCE75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688F37-B252-42A1-9D10-1130C205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821BDA-5E97-49F3-A087-A3268300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0C9C4B-E845-4284-B234-B9E83666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11D5C-8518-4110-8BF7-B8A1FAD3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3EB22-FDA3-4DED-9CF0-1C3A8DCA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ACB-0EA7-4381-ACB1-EEA3E5C3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47F-6E80-41E5-804D-7AB71B0E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1ED-DB3F-40F4-A9A8-05C95C7E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D4E-3586-4091-ACA8-A3124DC9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6D7-8EA5-4441-BEA6-58EBE7B4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14A-3169-4878-A805-77812F9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8B54-F0CF-4542-A5DE-48AFF11D34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AA78-6B12-4710-9BD3-73312DA832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1AD-E4EF-4512-A8D0-77BE070F3B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6969-5004-4A34-9DB9-2AA36E8295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7003-0332-42F8-B43C-E5DEAFE4DA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C673-03C8-4ADA-AC83-6129417B9E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metodika.reformy-msmt.c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7280" y="836280"/>
            <a:ext cx="4897440" cy="41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PN Metodik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v ke konci řešení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Jitka Moravcov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1131840" y="6300720"/>
            <a:ext cx="3786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Candara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15416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V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26.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201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C64C-94C4-4004-85E1-9E35BE18FC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5"/>
          <p:cNvSpPr/>
          <p:nvPr/>
        </p:nvSpPr>
        <p:spPr>
          <a:xfrm>
            <a:off x="620280" y="1622520"/>
            <a:ext cx="6630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1 – 4 užitné vz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č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káv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bobu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vá briketa na bázi zbytků z gastronom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2 – 23 užitných vzo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pseudo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ovocn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obilo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9485-72FC-4F3B-AD89-0000BEA264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5"/>
          <p:cNvSpPr/>
          <p:nvPr/>
        </p:nvSpPr>
        <p:spPr>
          <a:xfrm>
            <a:off x="625680" y="1631880"/>
            <a:ext cx="5706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ork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listů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peleta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Calibri"/>
              </a:rPr>
              <a:t>2013 – 6 užitných vzo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kej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čištění a zpracování obilo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lisování olejnatých 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v textilním průmys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mlýnských a pekárenských výrob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okru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ovéPole 4"/>
          <p:cNvSpPr/>
          <p:nvPr/>
        </p:nvSpPr>
        <p:spPr>
          <a:xfrm>
            <a:off x="4441320" y="3141720"/>
            <a:ext cx="365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1, 4 užitné v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2, 32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3, 6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472E-6673-459C-9D47-DB18774985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90520" y="155736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sledkem našich minulých i stávající Metodiky je obecné povědomí, že každý výsledek musí být oceněn institucionální podporou (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aždá VO má vlastně na IP „nárok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odnocení bylo pouhým přepočtem bodů na pení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výhoda metrik: rezignace na hodnocení kv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577800" y="3673440"/>
            <a:ext cx="8077320" cy="1771560"/>
            <a:chOff x="577800" y="3673440"/>
            <a:chExt cx="8077320" cy="1771560"/>
          </a:xfrm>
        </p:grpSpPr>
        <p:pic>
          <p:nvPicPr>
            <p:cNvPr id="184" name="Picture 6" descr=""/>
            <p:cNvPicPr/>
            <p:nvPr/>
          </p:nvPicPr>
          <p:blipFill>
            <a:blip r:embed="rId1"/>
            <a:stretch/>
          </p:blipFill>
          <p:spPr>
            <a:xfrm>
              <a:off x="577800" y="3682800"/>
              <a:ext cx="120024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7" descr=""/>
            <p:cNvPicPr/>
            <p:nvPr/>
          </p:nvPicPr>
          <p:blipFill>
            <a:blip r:embed="rId2"/>
            <a:stretch/>
          </p:blipFill>
          <p:spPr>
            <a:xfrm>
              <a:off x="1805400" y="3821040"/>
              <a:ext cx="123840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3"/>
            <a:stretch/>
          </p:blipFill>
          <p:spPr>
            <a:xfrm>
              <a:off x="3087000" y="3716280"/>
              <a:ext cx="12286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"/>
            <p:cNvPicPr/>
            <p:nvPr/>
          </p:nvPicPr>
          <p:blipFill>
            <a:blip r:embed="rId4"/>
            <a:stretch/>
          </p:blipFill>
          <p:spPr>
            <a:xfrm>
              <a:off x="4364280" y="3673440"/>
              <a:ext cx="12096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"/>
            <p:cNvPicPr/>
            <p:nvPr/>
          </p:nvPicPr>
          <p:blipFill>
            <a:blip r:embed="rId5"/>
            <a:stretch/>
          </p:blipFill>
          <p:spPr>
            <a:xfrm>
              <a:off x="5637240" y="3692160"/>
              <a:ext cx="101916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6"/>
            <a:stretch/>
          </p:blipFill>
          <p:spPr>
            <a:xfrm>
              <a:off x="6703920" y="3782880"/>
              <a:ext cx="85716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2" descr=""/>
            <p:cNvPicPr/>
            <p:nvPr/>
          </p:nvPicPr>
          <p:blipFill>
            <a:blip r:embed="rId7"/>
            <a:stretch/>
          </p:blipFill>
          <p:spPr>
            <a:xfrm>
              <a:off x="7607520" y="3720960"/>
              <a:ext cx="104760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Rectangle 18"/>
          <p:cNvSpPr/>
          <p:nvPr/>
        </p:nvSpPr>
        <p:spPr>
          <a:xfrm>
            <a:off x="174600" y="54388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7 užitných vzorů uplatněných v roce 2010 vyneslo v roc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cs-CZ" sz="2200" spc="-1" strike="noStrike">
                <a:solidFill>
                  <a:srgbClr val="ff0000"/>
                </a:solidFill>
                <a:latin typeface="Calibri"/>
                <a:ea typeface="Arial"/>
              </a:rPr>
              <a:t>IP 400 000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Variabilní stropní svít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Metodika 2013 už užitné vzory nezahrn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BAFA-18E8-4856-9B0A-9EFEC26C29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322200" y="1631880"/>
            <a:ext cx="849780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íklad Portugalska, strategická restrukturalizace VO v roce 2013 (peer-review hodno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o 322 VO (30 880 výzkumníků) za období 2008-2012 a strategii na 2015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7 hlavních pan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fáze (vyřazovací): dobrý, průměrný, špat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78 VO (55 %) do fáze 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81 VO (25 %) nepostoupilo, jen 80 %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62 VO (20 %), nedostalo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fáze: výjimečný, excelentní, velmi dobrý (strategické financ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í v 5 dimenzích: Productivity,  Sci and technol merit, Relevance, Feasibility of the work plan, Impact of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ngličtina, jen název a abstrakt v portugalšt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O si samy navrhovaly výši institucionální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3CA-ABC7-428B-859F-0B23337ECC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081520" y="112536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zkorumpova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07800" y="1622520"/>
            <a:ext cx="849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er-review je subjektivní 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hraniční hodnotitelé bez vazby n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veřejnění složení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mbinace: bibliometrie + indikátory + posouzení pan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asná pravidla pro práci oborových panelů (hodnotí) a hlavních panelů (dohlíží, koncipují doporu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čast českých zástupců v hlavních panelech a konzultantů pro v oborový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ŠMT má dobrou zkušenost s peer-review hodnocením výzkumných infra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V ČR má zkušenost s peer-review hodnoc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KHV a RVVI z Metodiky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z pilotních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3172-54AD-4763-8851-610BA8C2A6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538200" y="1341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Zkušenosti z veřejného projedná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seznámení se s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odůvodněnost připomí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nad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akceptování jiného názo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7A9-5E3A-4E17-9B13-CD86A70CFB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 (?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07800" y="1414440"/>
            <a:ext cx="84981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ational Evaluation of Research Organisations (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odnocení 2016 podle (upravené?) Metodik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gislativní změny, 2016 – 2017 (pokud budou nut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, 2016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alizace NERO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stitucionální financování, 2019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le RVVI a K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litické rozhodnu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  <a:ea typeface="Arial"/>
              </a:rPr>
              <a:t>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C7D0-4587-43EE-A848-48D81B1577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07800" y="12682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arm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41520" y="184464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0.2.2015 pracovní seminář s vybranými 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n-line administrativní a podpůrný systém APS, help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eznamu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výstupů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dělení výzkumníků do RU, přihlášení se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brat excelentní výsledky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sebehodnotící zprávu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30. dub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ijmout expertní panel pro prezenční návštěvu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konce čer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komentář k hodnotící zprávě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konec zá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pro číslo snímk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8C0-9B8E-4BF9-B164-789A76EB55E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6"/>
          <p:cNvSpPr/>
          <p:nvPr/>
        </p:nvSpPr>
        <p:spPr>
          <a:xfrm>
            <a:off x="1835280" y="443700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ez kvalitního hodnocení nebude kvalitní a efektivní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Obsa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DF1B-987B-40B5-81B9-381C591010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4280" y="1646280"/>
            <a:ext cx="8496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ruh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jčastější námi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sta k NERO (National Evaluation of Research Organis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eřejná zakázka - Technopol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AF77-1459-41A9-A74C-8ADAF60DFF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20560" y="1268280"/>
            <a:ext cx="80679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1.5.2015 skon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lnění zakázky bylo v souladu se smlou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chny dílčí a závěrečná zpráva byly MŠMT přij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. DZ – Hodnocení výzkumných 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2. DZ – Institucionální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. DZ – Mal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věrečná zpráva: Summary Report + pří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moc při pilotním ověření realizovaném tý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zultace road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nání s nám. Marksem, seminář pro ČKR, vystoupení na RV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2887-777E-442E-809A-AD9B567DB6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0560" y="1585800"/>
            <a:ext cx="80679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n-line systém (ČVUT): bibliometrické zprávy pro VJ, sebeevaluační zprávy, vyžádané informace k 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sou obsazeny pozice v hlavních a hodnotící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 panelů je na webových stránká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ční schůzky 14.5.2015 (Eng&amp;Tech), 20.5.2015 (Humanities), 21.5.2015 (NatSci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sazení pozic hodnotitelů pro vybrané vý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BD0C-667B-44B8-98DF-B9054AC242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brané hodnocen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06320" y="155736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é technologie Univerzity Pard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technologic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technologie ochrany prostředí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potravinářské a biochemické technologie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inženýrs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á VUT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eyrovského ústav fyzikální chemie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chemických procesů AVČR,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ýzkumný ústav anorganické chemie Ústí n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Centrum organické chemie s.r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71400" y="4653000"/>
            <a:ext cx="55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istorický ústav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pro soudobé dějiny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Jihočeské univerzity České Budějo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Univerzity Pard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technické muz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arc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5"/>
          <p:cNvSpPr/>
          <p:nvPr/>
        </p:nvSpPr>
        <p:spPr>
          <a:xfrm>
            <a:off x="755640" y="1754280"/>
            <a:ext cx="488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FDCD-603F-4F6E-90B0-D2EA13952F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20560" y="1197000"/>
            <a:ext cx="80679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sedání hlavních a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rpen - září, zprávy oborových a hlavní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ří – zpětná vazba hodnocený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628640"/>
          <a:ext cx="7128000" cy="38401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1319400"/>
              </a:tblGrid>
              <a:tr h="6102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Natural Sci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 Chem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.6. - 3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Biolog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. - 1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680"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Engineering and Technolog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 Chem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6. - 2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aterials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Environmental Engineer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 Industrial Biotechn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Human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 History and Arche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. - 9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 Languages and Lit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 Philosophy, Ethics and Relig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2542-02C5-4023-800A-2401EF7B93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8040" y="1666800"/>
            <a:ext cx="80676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lastimil Růžička, garant K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orel, prof. Mayer, ing. Kopř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ajemníci panelů (stud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nažerka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konom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valitní administrativní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4B9F-0124-41B6-93F4-81694EA6D7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07800" y="1630440"/>
            <a:ext cx="849816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max 1% z rozpočtu na institucionální podporu na přímé i nepřímé nákla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na současného hodnocení podle Metodiky není zná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známo, kolik prostředků se vynakládá </a:t>
            </a:r>
            <a:r>
              <a:rPr b="1" lang="cs-CZ" sz="2600" spc="-1" strike="noStrike">
                <a:solidFill>
                  <a:srgbClr val="ff0000"/>
                </a:solidFill>
                <a:latin typeface="Calibri"/>
              </a:rPr>
              <a:t>neefektiv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odhad nepřímých nákladů (VB 83 %, Itálie 84 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institucionální podpora 2015: 13 264 688 792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 toho: 355 848 945 (TA ČR, GA ČR, Úřad vlád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bývá: 12 908 819 847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1% z rozpočtu na institucionální podporu je cca 129 mil. Kč/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3060-FD6D-48AA-AF9A-CBA459714B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4920" y="1816200"/>
            <a:ext cx="90360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lkové náklady závisí na cíli hodnocení a jeho detail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Obecné pravidlo: čím detailnější hodnocení, tím dražší, ale tím vyšší poměr výkon/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Přímé náklady závis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počtu jednání panelů, na kvalitě administrativní podpory, komunikaci přes internet (skype, telekonference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zavedení návštěv panelů na mís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částí projektu je vypracování Studie proveditelnosti s posouzením různých vari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Detailnost hodnocení je téma pro implementac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Moravcová Jitka</cp:lastModifiedBy>
  <dcterms:modified xsi:type="dcterms:W3CDTF">2015-06-26T06:27:08Z</dcterms:modified>
  <cp:revision>314</cp:revision>
  <dc:subject/>
  <dc:title>nadpis</dc:title>
</cp:coreProperties>
</file>